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7.png" ContentType="image/png"/>
  <Override PartName="/ppt/media/image55.png" ContentType="image/png"/>
  <Override PartName="/ppt/media/image20.jpeg" ContentType="image/jpeg"/>
  <Override PartName="/ppt/media/image53.jpeg" ContentType="image/jpeg"/>
  <Override PartName="/ppt/media/image23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0.png" ContentType="image/png"/>
  <Override PartName="/ppt/media/image56.jpeg" ContentType="image/jpeg"/>
  <Override PartName="/ppt/media/image33.png" ContentType="image/png"/>
  <Override PartName="/ppt/media/image3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60.png" ContentType="image/png"/>
  <Override PartName="/ppt/media/image28.jpeg" ContentType="image/jpeg"/>
  <Override PartName="/ppt/media/image62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67.png" ContentType="image/png"/>
  <Override PartName="/ppt/media/image30.png" ContentType="image/png"/>
  <Override PartName="/ppt/media/image26.jpeg" ContentType="image/jpeg"/>
  <Override PartName="/ppt/media/image42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66.png" ContentType="image/png"/>
  <Override PartName="/ppt/media/image65.jpeg" ContentType="image/jpeg"/>
  <Override PartName="/ppt/media/image8.jpeg" ContentType="image/jpeg"/>
  <Override PartName="/ppt/media/image38.png" ContentType="image/png"/>
  <Override PartName="/ppt/media/image63.png" ContentType="image/png"/>
  <Override PartName="/ppt/media/image52.png" ContentType="image/png"/>
  <Override PartName="/ppt/media/image58.png" ContentType="image/png"/>
  <Override PartName="/ppt/media/image59.png" ContentType="image/png"/>
  <Override PartName="/ppt/media/image22.png" ContentType="image/png"/>
  <Override PartName="/ppt/media/image61.png" ContentType="image/png"/>
  <Override PartName="/ppt/media/image24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34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13.jpeg" ContentType="image/jpeg"/>
  <Override PartName="/ppt/media/image44.png" ContentType="image/png"/>
  <Override PartName="/ppt/media/image9.png" ContentType="image/png"/>
  <Override PartName="/ppt/media/image39.png" ContentType="image/png"/>
  <Override PartName="/ppt/media/image12.jpeg" ContentType="image/jpeg"/>
  <Override PartName="/ppt/media/image29.jpeg" ContentType="image/jpeg"/>
  <Override PartName="/ppt/media/image17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jpeg" ContentType="image/jpeg"/>
  <Override PartName="/ppt/media/image31.png" ContentType="image/png"/>
  <Override PartName="/ppt/media/image41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BFAF-4AED-49C7-8E3F-7CC7D2B63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78CF-1319-498B-92C9-C1B084700A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09D-8D4A-4497-97BB-2CDE3FFFF4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F954-98E2-4A36-9686-2B61154217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CD2C-6ED4-42B8-9A6D-3BAB040DE7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8037-234E-4B49-ABB7-BAB294B3B7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C066-5F8C-4D30-BCAB-74B6140B6D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E9ADA-09A2-4985-808A-2468AA24A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2DAC-6252-4510-B548-E235D03BE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CD3C-6464-4307-8260-7C22C8EBA6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DCD1-B5AA-4921-9E1C-57B0AF785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618B-0A54-430C-AA51-75EC8DE4CF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552B-A3A8-4735-8955-9A76B36851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439D-00A3-4541-9DD1-1F40B06C36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7F8C-71E3-4840-A0A7-70558203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00C-10B5-4E2C-89B2-7B598B7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39E-4BFA-4426-83DC-DB7B7D1E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5EF1-13B0-48BD-AA27-BDE8F3B7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6830-DBD0-4B50-AE02-6EB0A75A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B1F-53C2-4A69-9A3B-1906E47D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053B-56F4-4861-8C05-C26EC43F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6882-2DF4-4790-B89D-2EB52251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0666-14D5-45CE-8CFB-04DED4FF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9FA9-525D-448D-B8B1-64447B0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1800-3032-4490-8281-C104A069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29F-ED0D-4B18-A7CE-24F2F007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BFFF-6F33-4073-9CEB-EEE1E1DF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396B-E8AC-4174-9943-2AB5E63B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704B-8AAE-4F0D-966F-5686D0B4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3358-1021-45C2-9077-08DBD8C6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08B6-5D5E-4E61-9154-5ECA2F09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A7EE6-B5E3-468D-BEB6-AC77B59EA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32D56-CAC3-499D-AFB5-5D34D1C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909C-03E2-4243-8311-F6FD6412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F15FA-E0F4-440D-A8B1-FA2FA2A85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B874-E9E8-4723-987B-9F7BAE5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D2F-D3DC-483C-A8D6-B8DFF50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57395-7BEF-47C7-9717-FBC447C5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87B24-DA58-4CE8-8393-50E2D78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7F8B2-C585-4501-89E0-450C78FE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E8AE-ECAA-479A-9BCD-5A2BEEAE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9DB9-78C8-48B6-815F-857706B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A82A4-1159-4A77-BFF5-520A28062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CC84-44B3-4453-A60A-F2292FB2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F5DF-B9D7-4FB6-B422-EFE9485E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2F64-7B37-4333-8319-7074CB877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4A385-7A5A-45E2-BDD4-CF808F5A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BE1-E9CB-4466-B87D-F553BB41F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FA31B-1323-42B1-A260-0D5D9ECB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D7F2-3F56-4345-BC85-E325194A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45CE7-45A5-4C08-B773-EB97B2AF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E28EC-9353-48E2-9C41-3107E8E4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2979-877D-4F58-AFB5-0415275B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7732C-1B88-42D5-8D45-31FCA947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3FD6-3DFD-4C66-B8F5-C4452820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3DF4D-BA46-415B-BCCD-07B603D82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B67C5-C117-4413-B24F-45457575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7DF5-4DBA-4E9B-B912-C3EA654E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9B8-F0FA-45C2-B4F0-4096B763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BA678-1EAD-4F61-AF89-EB602F30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801CB-CDF8-459E-9727-A1698FB1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1F413-F5EF-42DC-8C24-E9D213717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13A27-F35F-4681-AD33-E64378F3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0F58F-02D0-4BA4-88E0-0BBFF6D7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8F016-9521-4FB4-82DD-D492800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46F3-9417-43F5-B4BF-81739AD6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E890E-C2FD-40ED-9A92-ADC4C5DE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D0462-C088-40AC-819D-E6CFED6C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6D7A8-6E87-4845-9036-EC395234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A0C-087C-4E0A-A76D-E7759C464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07856-C0BB-4A1A-96CC-0DCA60519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F9A7-F681-4DA2-AE73-81508C13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3419-13BD-4538-B44A-B30BD79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03DB-6037-4809-8732-1E288353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6D8-2838-4CEC-B333-EC70BD8D125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4D66-53BC-424C-A0B9-F18FDABF12F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8407-0787-4880-8E20-6665698B0E2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6157-14AE-4929-B8FE-12E16CABD0F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B026-D6EA-4764-8906-0C8C0CA8DA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Title 1" descr=""/>
          <p:cNvPicPr/>
          <p:nvPr/>
        </p:nvPicPr>
        <p:blipFill>
          <a:blip r:embed="rId1"/>
          <a:stretch/>
        </p:blipFill>
        <p:spPr>
          <a:xfrm>
            <a:off x="268200" y="585720"/>
            <a:ext cx="8856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Title 1" descr=""/>
          <p:cNvPicPr/>
          <p:nvPr/>
        </p:nvPicPr>
        <p:blipFill>
          <a:blip r:embed="rId1"/>
          <a:stretch/>
        </p:blipFill>
        <p:spPr>
          <a:xfrm>
            <a:off x="407880" y="304920"/>
            <a:ext cx="85773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-55440" y="701640"/>
            <a:ext cx="6207120" cy="540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http://t3.gstatic.com/images?q=tbn:ANd9GcQHcpO1ok-yg15nODUeo_xjOktyA3JL8t0Jwrjo8S6Vn6hAZLw&amp;t=1&amp;usg=__GaARhJopiO0WDsSgRGLDmyCwYPI="/>
          <p:cNvPicPr/>
          <p:nvPr/>
        </p:nvPicPr>
        <p:blipFill>
          <a:blip r:embed="rId2"/>
          <a:stretch/>
        </p:blipFill>
        <p:spPr>
          <a:xfrm>
            <a:off x="5715000" y="160020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KEY FEATURES OF POPULA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34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 </a:t>
            </a:r>
            <a:r>
              <a:rPr b="0" lang="en-US" sz="2800" spc="-1" strike="noStrike">
                <a:solidFill>
                  <a:srgbClr val="85dfd0"/>
                </a:solidFill>
                <a:latin typeface="Constantia"/>
              </a:rPr>
              <a:t>Population siz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the number of individuals in a populati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as an important effect on the ability of the population to surviv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small population is more likely to become extinct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in the case of random events or natural dis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due to inbreeding where the population is more genetically alike.  Recessive traits are more likely to appe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62680" indent="-216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-with reduced variability it is harder to adapt to chan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FEATURES OF POPULATION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2.  </a:t>
            </a:r>
            <a:r>
              <a:rPr b="0" lang="en-US" sz="4800" spc="-1" strike="noStrike">
                <a:solidFill>
                  <a:srgbClr val="85dfd0"/>
                </a:solidFill>
                <a:latin typeface="Constantia"/>
              </a:rPr>
              <a:t>Population density</a:t>
            </a:r>
            <a:r>
              <a:rPr b="0" lang="en-US" sz="3600" spc="-1" strike="noStrike">
                <a:solidFill>
                  <a:srgbClr val="85dfd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e number of individuals in a given area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they are too far apart they may only rarely encounter one another resulting in little reproduc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EATURES OF POPULATIONS, con’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pulation siz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limit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: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density-dependent facto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ompeti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redat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Parasit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Foo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-201600">
              <a:lnSpc>
                <a:spcPct val="8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rowd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749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 greater the population, the greater effect these factors ha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524520" indent="-201600">
              <a:lnSpc>
                <a:spcPct val="8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Ex. Black plague in the Middle Ages – more deaths in citi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35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609480" y="857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EY FEATURES OF POPULATIONS, con’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pulation size is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limite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by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533520" y="2073240"/>
            <a:ext cx="830556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density-independent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Volcanic eru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Fl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Chemical pestic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  <a:ea typeface="Arial"/>
              </a:rPr>
              <a:t>Major habitat disruption (as in the New Orleans floo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st are abiotic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KEY FEATURES OF POPULATION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 Dispersion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way in which the individuals are arrange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5" descr="Fig. 6.3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7418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6300720" y="64911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Most comm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5867280" cy="569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Factors that increase population siz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Natality is recruitment to a population through reproduction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mmigration from external populations e.g. Bird mig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0" name="Picture 2" descr="http://t1.gstatic.com/images?q=tbn:ANd9GcSm18KgJGh83xhzCql0XHE-uKPKduO92mNIfaviYBBm5GOAYOI&amp;t=1&amp;usg=__I9uNEXaeUzbcnRcXVvVt84Zk4RE="/>
          <p:cNvPicPr/>
          <p:nvPr/>
        </p:nvPicPr>
        <p:blipFill>
          <a:blip r:embed="rId1"/>
          <a:stretch/>
        </p:blipFill>
        <p:spPr>
          <a:xfrm>
            <a:off x="5075280" y="3809880"/>
            <a:ext cx="4068720" cy="30481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" descr="http://libertadhumana.files.wordpress.com/2009/10/migracion-aves.jpg"/>
          <p:cNvPicPr/>
          <p:nvPr/>
        </p:nvPicPr>
        <p:blipFill>
          <a:blip r:embed="rId2"/>
          <a:stretch/>
        </p:blipFill>
        <p:spPr>
          <a:xfrm>
            <a:off x="6400800" y="1371600"/>
            <a:ext cx="3683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28240" y="704520"/>
            <a:ext cx="6172200" cy="592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4617b"/>
                </a:solidFill>
                <a:latin typeface="Calibri"/>
              </a:rPr>
              <a:t>Factor reducing population siz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: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Mortality which is the death rate from any source e.g. predation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Emigration, where individuals leave the population for another habitat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3" name="Picture 2" descr="http://t1.gstatic.com/images?q=tbn:ANd9GcQXdV0Ouset8m9kTiK0EdrO_k2ZibFvQ2xguMX5wds8o3Bmv3Y&amp;t=1&amp;usg=__RJbThkhXNSfCpWNax6NmqMv1Efc="/>
          <p:cNvPicPr/>
          <p:nvPr/>
        </p:nvPicPr>
        <p:blipFill>
          <a:blip r:embed="rId1"/>
          <a:stretch/>
        </p:blipFill>
        <p:spPr>
          <a:xfrm>
            <a:off x="5334120" y="1828800"/>
            <a:ext cx="3967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-49320" y="-536400"/>
            <a:ext cx="92664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5" name="Picture 2" descr="http://click4biology.info/c4b/5/images/5.3/Pop-size.gif"/>
          <p:cNvPicPr/>
          <p:nvPr/>
        </p:nvPicPr>
        <p:blipFill>
          <a:blip r:embed="rId1"/>
          <a:stretch/>
        </p:blipFill>
        <p:spPr>
          <a:xfrm>
            <a:off x="380880" y="457200"/>
            <a:ext cx="8653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1" descr=""/>
          <p:cNvPicPr/>
          <p:nvPr/>
        </p:nvPicPr>
        <p:blipFill>
          <a:blip r:embed="rId1"/>
          <a:stretch/>
        </p:blipFill>
        <p:spPr>
          <a:xfrm>
            <a:off x="30240" y="701640"/>
            <a:ext cx="958356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le 1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442440" cy="66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13752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Title 1" descr=""/>
          <p:cNvPicPr/>
          <p:nvPr/>
        </p:nvPicPr>
        <p:blipFill>
          <a:blip r:embed="rId1"/>
          <a:stretch/>
        </p:blipFill>
        <p:spPr>
          <a:xfrm>
            <a:off x="115920" y="347760"/>
            <a:ext cx="86565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8836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9015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Title 1" descr=""/>
          <p:cNvPicPr/>
          <p:nvPr/>
        </p:nvPicPr>
        <p:blipFill>
          <a:blip r:embed="rId1"/>
          <a:stretch/>
        </p:blipFill>
        <p:spPr>
          <a:xfrm>
            <a:off x="109440" y="665280"/>
            <a:ext cx="86630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73080" y="-237960"/>
            <a:ext cx="8894880" cy="1158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" descr="http://click4biology.info/c4b/5/images/5.3/logistics.gif"/>
          <p:cNvPicPr/>
          <p:nvPr/>
        </p:nvPicPr>
        <p:blipFill>
          <a:blip r:embed="rId2"/>
          <a:stretch/>
        </p:blipFill>
        <p:spPr>
          <a:xfrm>
            <a:off x="1371600" y="1371600"/>
            <a:ext cx="579132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le 1" descr=""/>
          <p:cNvPicPr/>
          <p:nvPr/>
        </p:nvPicPr>
        <p:blipFill>
          <a:blip r:embed="rId1"/>
          <a:stretch/>
        </p:blipFill>
        <p:spPr>
          <a:xfrm>
            <a:off x="73080" y="938160"/>
            <a:ext cx="889488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2" descr="http://t0.gstatic.com/images?q=tbn:ANd9GcTsdawAeYWJ-aW-qJzdU1PzeGr_mDcvZuYiOPEnIzNjssChWM0&amp;t=1&amp;usg=__4YAzCYkyZMkfzdPdGuyKjedEr0s="/>
          <p:cNvPicPr/>
          <p:nvPr/>
        </p:nvPicPr>
        <p:blipFill>
          <a:blip r:embed="rId1"/>
          <a:stretch/>
        </p:blipFill>
        <p:spPr>
          <a:xfrm>
            <a:off x="1676520" y="609480"/>
            <a:ext cx="6324480" cy="59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08352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09440" y="208080"/>
            <a:ext cx="8906040" cy="63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90583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109440" y="585720"/>
            <a:ext cx="86742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09440" y="701640"/>
            <a:ext cx="877896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itle 1" descr=""/>
          <p:cNvPicPr/>
          <p:nvPr/>
        </p:nvPicPr>
        <p:blipFill>
          <a:blip r:embed="rId1"/>
          <a:stretch/>
        </p:blipFill>
        <p:spPr>
          <a:xfrm>
            <a:off x="208080" y="701640"/>
            <a:ext cx="88804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73080" y="573120"/>
            <a:ext cx="9047160" cy="62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73080" y="378000"/>
            <a:ext cx="8699400" cy="3724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http://t3.gstatic.com/images?q=tbn:ANd9GcSXtURuWao_Avivg4arBIhFqw2YUsNn5NVgZuwaLV6HLoj1dHU&amp;t=1&amp;usg=__A2nWwQ3aiFpy2ct0n_ZxYizAJuU="/>
          <p:cNvPicPr/>
          <p:nvPr/>
        </p:nvPicPr>
        <p:blipFill>
          <a:blip r:embed="rId2"/>
          <a:stretch/>
        </p:blipFill>
        <p:spPr>
          <a:xfrm>
            <a:off x="3962520" y="3703680"/>
            <a:ext cx="497196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5813" t="27087" r="58420" b="27087"/>
          <a:stretch/>
        </p:blipFill>
        <p:spPr>
          <a:xfrm>
            <a:off x="2819520" y="533520"/>
            <a:ext cx="5943600" cy="59436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3"/>
          <p:cNvSpPr/>
          <p:nvPr/>
        </p:nvSpPr>
        <p:spPr>
          <a:xfrm>
            <a:off x="685800" y="98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rying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-6480" y="609480"/>
            <a:ext cx="91695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-96840" y="463680"/>
            <a:ext cx="8869320" cy="1388880"/>
          </a:xfrm>
          <a:prstGeom prst="rect">
            <a:avLst/>
          </a:prstGeom>
          <a:ln w="0">
            <a:noFill/>
          </a:ln>
        </p:spPr>
      </p:pic>
      <p:sp>
        <p:nvSpPr>
          <p:cNvPr id="258" name="TextBox 2"/>
          <p:cNvSpPr/>
          <p:nvPr/>
        </p:nvSpPr>
        <p:spPr>
          <a:xfrm>
            <a:off x="485640" y="1905120"/>
            <a:ext cx="464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sists of the non living. Includes soil, water, weathe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ttp://t1.gstatic.com/images?q=tbn:ANd9GcTf1NVkMxh5_nuNUlR8FA1WSP4Jd4R_VnZ4F31NQRyI7zDIwLM&amp;t=1&amp;usg=__LdigpVtXJcLHzdyiQO3KW4tJudo="/>
          <p:cNvPicPr/>
          <p:nvPr/>
        </p:nvPicPr>
        <p:blipFill>
          <a:blip r:embed="rId2"/>
          <a:stretch/>
        </p:blipFill>
        <p:spPr>
          <a:xfrm>
            <a:off x="4684680" y="1981080"/>
            <a:ext cx="4078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902160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http://t2.gstatic.com/images?q=tbn:ANd9GcSuSHOE3Y6GJjC-6YTpQrMt5Co3et7A3t7Xb4g0jPn96R-b0ro&amp;t=1&amp;usg=__jx_AMrMSv4DAfk3EPvE5jYJGVOg="/>
          <p:cNvPicPr/>
          <p:nvPr/>
        </p:nvPicPr>
        <p:blipFill>
          <a:blip r:embed="rId1"/>
          <a:stretch/>
        </p:blipFill>
        <p:spPr>
          <a:xfrm>
            <a:off x="838080" y="3112920"/>
            <a:ext cx="7696440" cy="3576960"/>
          </a:xfrm>
          <a:prstGeom prst="rect">
            <a:avLst/>
          </a:prstGeom>
          <a:ln w="0">
            <a:noFill/>
          </a:ln>
        </p:spPr>
      </p:pic>
      <p:pic>
        <p:nvPicPr>
          <p:cNvPr id="321" name="Title 1" descr=""/>
          <p:cNvPicPr/>
          <p:nvPr/>
        </p:nvPicPr>
        <p:blipFill>
          <a:blip r:embed="rId2"/>
          <a:stretch/>
        </p:blipFill>
        <p:spPr>
          <a:xfrm>
            <a:off x="109440" y="665280"/>
            <a:ext cx="866304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09440" y="298440"/>
            <a:ext cx="9113760" cy="15541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http://t0.gstatic.com/images?q=tbn:ANd9GcTtik2aVBw64nbDWuQurEGNfCTUsK4drFvS61J_OX7H7LCeFco&amp;t=1&amp;usg=__mx8BLAfbta1ZJBEVLnJksoZCs_k="/>
          <p:cNvPicPr/>
          <p:nvPr/>
        </p:nvPicPr>
        <p:blipFill>
          <a:blip r:embed="rId2"/>
          <a:stretch/>
        </p:blipFill>
        <p:spPr>
          <a:xfrm>
            <a:off x="557280" y="2057400"/>
            <a:ext cx="82058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Model: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hypothetical population that has key characteristics of the real population being studied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by demographers to predict how a population will grow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Nearly all populations will tend to grow 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exponentially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as long as there are resources available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wo of the most basic factors that affect the rate of population growth are the birth rate, and the death rate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r(rate of growth)=birth rate – death rat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xponential growth curve</a:t>
            </a:r>
            <a:r>
              <a:rPr b="0" lang="en-US" sz="2400" spc="-1" strike="noStrike">
                <a:solidFill>
                  <a:srgbClr val="85dfd0"/>
                </a:solidFill>
                <a:latin typeface="Constanti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population growth plotted agains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 a population gets larger, it also grows at a faster rat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is is the maximum population growth under ideal circumstanc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s plenty of room for each member, unlimited resources (food, water) and no hindrances (predators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4643280" y="1916280"/>
            <a:ext cx="4392720" cy="41767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0" y="623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6fc6"/>
                </a:solidFill>
                <a:latin typeface="Tahoma"/>
              </a:rPr>
              <a:t>FACT:  No population exhibits this type of growth for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ogistic model</a:t>
            </a:r>
            <a:r>
              <a:rPr b="0" lang="en-US" sz="2800" spc="-1" strike="noStrike">
                <a:solidFill>
                  <a:srgbClr val="85dfd0"/>
                </a:solidFill>
                <a:latin typeface="Constanti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This model accounts for the declining resources available to populations as they grow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t assumes the birth and death rates are not constan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s the population grows, births decline and death rise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ventually birth=death so the population stops growing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arrying capacity (K):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number of organisms of one species that an environment can support indefinitely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542520"/>
            <a:ext cx="91440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REDICTING POPULATION GROWTH, con’t</a:t>
            </a: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wo modes of population growth.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6" name="Picture 8" descr="expgrowth"/>
          <p:cNvPicPr/>
          <p:nvPr/>
        </p:nvPicPr>
        <p:blipFill>
          <a:blip r:embed="rId1"/>
          <a:stretch/>
        </p:blipFill>
        <p:spPr>
          <a:xfrm>
            <a:off x="611280" y="1052640"/>
            <a:ext cx="7775640" cy="47005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9"/>
          <p:cNvSpPr/>
          <p:nvPr/>
        </p:nvSpPr>
        <p:spPr>
          <a:xfrm>
            <a:off x="358920" y="5734080"/>
            <a:ext cx="42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f6fc6"/>
                </a:solidFill>
                <a:latin typeface="Tahoma"/>
              </a:rPr>
              <a:t>The Exponential curve (also known as a J-curv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occurs when there is no limit to population siz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4500720" y="5734080"/>
            <a:ext cx="464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f6fc6"/>
                </a:solidFill>
                <a:latin typeface="Arial"/>
              </a:rPr>
              <a:t>The Logistic curve (also known as an S-curv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ws the effect of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miting fac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n this case th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rrying capa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environment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There are 2 ways a population can prosper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epends on the rate of growth (r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Influenced by the carrying capacity (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-strategists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haracterized by exponential growth, which results in temporarily large populations, followed by sudden crashes in population size.  Ex. Insects, bacteria, some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in unpredictable and rapidly changing enviro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roduce quickly when conditions are favorab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y offspring: small, mature rapidly, no parental ca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nstantia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= rate of growt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Title 1" descr=""/>
          <p:cNvPicPr/>
          <p:nvPr/>
        </p:nvPicPr>
        <p:blipFill>
          <a:blip r:embed="rId1"/>
          <a:stretch/>
        </p:blipFill>
        <p:spPr>
          <a:xfrm>
            <a:off x="-158760" y="317520"/>
            <a:ext cx="8931240" cy="1535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762120" y="2209680"/>
            <a:ext cx="487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ll the living. Including all forms of lif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http://t3.gstatic.com/images?q=tbn:ANd9GcSXzVmHfkGa7xrgWgTccuxn2gme6VL5hajjHuyGwV0Z7ilLOdw&amp;t=1&amp;usg=__EeKKe1nmO_P5zF8iR0dPFB9xTvk="/>
          <p:cNvPicPr/>
          <p:nvPr/>
        </p:nvPicPr>
        <p:blipFill>
          <a:blip r:embed="rId2"/>
          <a:stretch/>
        </p:blipFill>
        <p:spPr>
          <a:xfrm>
            <a:off x="5638680" y="4003560"/>
            <a:ext cx="3238560" cy="2416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http://t1.gstatic.com/images?q=tbn:ANd9GcQRm5SCqXUKnyAgiknAtrGCrKQXgypecdq7sqrv8_H_n3t9G0Q&amp;t=1&amp;usg=__9ts5K45lvkIhDCXcXJwqPaOQPsY="/>
          <p:cNvPicPr/>
          <p:nvPr/>
        </p:nvPicPr>
        <p:blipFill>
          <a:blip r:embed="rId3"/>
          <a:stretch/>
        </p:blipFill>
        <p:spPr>
          <a:xfrm>
            <a:off x="3276720" y="228600"/>
            <a:ext cx="2860560" cy="1886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http://t3.gstatic.com/images?q=tbn:ANd9GcS09r7m8-Nyj8hmRBLWyzfu8DccR30u7xt_2R9ZJOdRep7j8Iw&amp;t=1&amp;usg=__Ka1gVdEgRgMI-T0zsoIpPzCaz1Y="/>
          <p:cNvPicPr/>
          <p:nvPr/>
        </p:nvPicPr>
        <p:blipFill>
          <a:blip r:embed="rId4"/>
          <a:stretch/>
        </p:blipFill>
        <p:spPr>
          <a:xfrm>
            <a:off x="5925960" y="685800"/>
            <a:ext cx="2779920" cy="2743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2" descr="http://t2.gstatic.com/images?q=tbn:ANd9GcTsnNVJ_m_c0NB3uN6y7caNytTDU4xLO41l4I9KtuczOZ-y6YQ&amp;t=1&amp;usg=__k2jqBrWvuWAD7-RiGrf16oYoXXY="/>
          <p:cNvPicPr/>
          <p:nvPr/>
        </p:nvPicPr>
        <p:blipFill>
          <a:blip r:embed="rId5"/>
          <a:stretch/>
        </p:blipFill>
        <p:spPr>
          <a:xfrm>
            <a:off x="3505320" y="4724280"/>
            <a:ext cx="2400120" cy="19051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4" descr="http://t3.gstatic.com/images?q=tbn:ANd9GcTovG2B9nGf5b5uuhkvkAeY4P2TQVex0uYJij3nLhiLKLsmCNI&amp;t=1&amp;usg=__vvmlUXurpGiaV-eVeMIEZfcBxgQ="/>
          <p:cNvPicPr/>
          <p:nvPr/>
        </p:nvPicPr>
        <p:blipFill>
          <a:blip r:embed="rId6"/>
          <a:stretch/>
        </p:blipFill>
        <p:spPr>
          <a:xfrm>
            <a:off x="685800" y="48006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nstantia"/>
              </a:rPr>
              <a:t>K-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strategists: 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haracterized by a high degree of specialization.  Ex. Trees, whales, tigers, etc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ive in stable and predictable environme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an compete effective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produce late in lif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ew offspring: large, mature slowly, often much parental c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= carrying capac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59276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POPULATION GROWTH STRATEGIES, con’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50920" y="620280"/>
            <a:ext cx="87408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18160" indent="-21816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Human Populations</a:t>
            </a: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nstantia"/>
              </a:rPr>
              <a:t>K- </a:t>
            </a: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ategist characteristic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n recent times however, man has learned to expand the carrying capacity of his environment by increasing food supply, combating pests and curing disease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an Earth support this increase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amage to the planet will eventually reduce the carrying capacity for humanity and slow the growth of the human popul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9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898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98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98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77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6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8" dur="77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09440" y="-6480"/>
            <a:ext cx="866304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73080" y="573120"/>
            <a:ext cx="901548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0" name="Picture 2" descr="http://click4biology.info/c4b/5/images/5.3/resistance.gif"/>
          <p:cNvPicPr/>
          <p:nvPr/>
        </p:nvPicPr>
        <p:blipFill>
          <a:blip r:embed="rId1"/>
          <a:stretch/>
        </p:blipFill>
        <p:spPr>
          <a:xfrm>
            <a:off x="838080" y="457200"/>
            <a:ext cx="73915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925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9320" y="615960"/>
            <a:ext cx="872316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36360" y="701640"/>
            <a:ext cx="883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http://t0.gstatic.com/images?q=tbn:ANd9GcQgKi1vLPwJqQXkdCDup58YMzkTjrfg_GWd26qcpfR5tghxqak&amp;t=1&amp;usg=__n9iiKX3ZQlz2ptBxz37F6jIZ7Es="/>
          <p:cNvPicPr/>
          <p:nvPr/>
        </p:nvPicPr>
        <p:blipFill>
          <a:blip r:embed="rId1"/>
          <a:stretch/>
        </p:blipFill>
        <p:spPr>
          <a:xfrm>
            <a:off x="5638680" y="4005360"/>
            <a:ext cx="3200400" cy="2528640"/>
          </a:xfrm>
          <a:prstGeom prst="rect">
            <a:avLst/>
          </a:prstGeom>
          <a:ln w="0">
            <a:noFill/>
          </a:ln>
        </p:spPr>
      </p:pic>
      <p:pic>
        <p:nvPicPr>
          <p:cNvPr id="355" name="Title 1" descr=""/>
          <p:cNvPicPr/>
          <p:nvPr/>
        </p:nvPicPr>
        <p:blipFill>
          <a:blip r:embed="rId2"/>
          <a:stretch/>
        </p:blipFill>
        <p:spPr>
          <a:xfrm>
            <a:off x="109440" y="433440"/>
            <a:ext cx="912024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146160" y="146160"/>
            <a:ext cx="9004320" cy="62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-158760" y="298440"/>
            <a:ext cx="865044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1" descr=""/>
          <p:cNvPicPr/>
          <p:nvPr/>
        </p:nvPicPr>
        <p:blipFill>
          <a:blip r:embed="rId1"/>
          <a:stretch/>
        </p:blipFill>
        <p:spPr>
          <a:xfrm>
            <a:off x="85680" y="701640"/>
            <a:ext cx="8929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0" name="Picture 2" descr="http://t1.gstatic.com/images?q=tbn:ANd9GcSfloN71AbuPdUFUHeuhdCOvY7lRJkxO76op-m0_YtJY4XFqUU&amp;t=1&amp;usg=__pGfLwMsaKibTnXk3yRiD0kkFYQE=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0259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http://t1.gstatic.com/images?q=tbn:ANd9GcSuMwMYzzL1AaOulgnSfXZFQ7fQaz_yd6Sbr7DBIlMJPcCKkDc&amp;t=1&amp;usg=__qqXzVSl7ZySWkSBJGV74EaUk7Z4="/>
          <p:cNvPicPr/>
          <p:nvPr/>
        </p:nvPicPr>
        <p:blipFill>
          <a:blip r:embed="rId2"/>
          <a:stretch/>
        </p:blipFill>
        <p:spPr>
          <a:xfrm>
            <a:off x="609480" y="228600"/>
            <a:ext cx="723924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33940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18:06:16Z</dcterms:created>
  <dc:creator>user</dc:creator>
  <dc:description/>
  <dc:language>en-US</dc:language>
  <cp:lastModifiedBy>user</cp:lastModifiedBy>
  <dcterms:modified xsi:type="dcterms:W3CDTF">2010-08-03T04:57:22Z</dcterms:modified>
  <cp:revision>25</cp:revision>
  <dc:subject/>
  <dc:title>Slide 1</dc:title>
</cp:coreProperties>
</file>